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DE5F5-2297-49A7-A6A3-E04035B34FC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0B27A-BED1-4235-AC30-92F0C63BEC5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22F20-304B-4250-A179-39CFB94412E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D39F9-CDA2-4001-9933-DD24A777363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4A2E5-F479-424E-BC8D-B94F7DD9FB2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AA7B2-970E-47CE-A9D8-63D9C8C6FEE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FD3AF-6837-4639-9FC9-326EF6E1EF5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D7D1A-60C2-4196-94EF-6A38AAAC1FB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0773F-D3B9-4C0D-B595-0CE4AB1330C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63DA2-DCEC-46E2-937A-9FE35083920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C3521-A636-46EA-88C1-FB5627547DC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7279F-B0E6-4CDE-8591-F8995C659E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44BE1-A245-4351-BA35-1A7CA705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52BCA-9096-40D6-89C1-9BD99F2A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85085-37D9-4D86-8E6F-C9B6DA2F2D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49114-D367-4B85-9C28-B459614F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F954E-953D-4086-8AC6-764C4CE1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8A2BB-4BD6-453C-90FE-EA68D3EA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7DA77-285A-4744-A300-33DEA8E7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1785B-7EE2-4D6D-A284-ED2EA8EA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6CA25-27F4-4CDC-B928-FB60E577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D5D4-1DF8-4E94-91FD-518A5759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99CE0-7E8A-4F6A-B959-DBB17932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2A6B22-2D85-438A-A258-36D567208819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FORMACIÓN DE 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OS DISTINTOS TIPOS DE R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los distintos tipos de r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564000" y="1484280"/>
            <a:ext cx="1800000" cy="1079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60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TIPO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O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3456000" y="3284640"/>
            <a:ext cx="1979640" cy="1079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60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TAMÓRF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1224000" y="3284640"/>
            <a:ext cx="1800360" cy="1079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60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GMÁ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5904000" y="3284640"/>
            <a:ext cx="1979640" cy="1079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60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DIMENTA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12"/>
          <p:cNvSpPr/>
          <p:nvPr/>
        </p:nvSpPr>
        <p:spPr>
          <a:xfrm>
            <a:off x="2124000" y="2924280"/>
            <a:ext cx="4756320" cy="1440"/>
          </a:xfrm>
          <a:custGeom>
            <a:avLst/>
            <a:gdLst>
              <a:gd name="textAreaLeft" fmla="*/ 0 w 4756320"/>
              <a:gd name="textAreaRight" fmla="*/ 4756680 w 4756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3213" h="4">
                <a:moveTo>
                  <a:pt x="0" y="0"/>
                </a:moveTo>
                <a:lnTo>
                  <a:pt x="13212" y="3"/>
                </a:lnTo>
              </a:path>
            </a:pathLst>
          </a:custGeom>
          <a:noFill/>
          <a:ln w="360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reeform 14"/>
          <p:cNvSpPr/>
          <p:nvPr/>
        </p:nvSpPr>
        <p:spPr>
          <a:xfrm>
            <a:off x="4464000" y="2563920"/>
            <a:ext cx="1800" cy="360360"/>
          </a:xfrm>
          <a:custGeom>
            <a:avLst/>
            <a:gdLst>
              <a:gd name="textAreaLeft" fmla="*/ 0 w 1800"/>
              <a:gd name="textAreaRight" fmla="*/ 2160 w 1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" h="1001">
                <a:moveTo>
                  <a:pt x="0" y="0"/>
                </a:moveTo>
                <a:lnTo>
                  <a:pt x="0" y="1000"/>
                </a:lnTo>
              </a:path>
            </a:pathLst>
          </a:custGeom>
          <a:noFill/>
          <a:ln w="360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reeform 15"/>
          <p:cNvSpPr/>
          <p:nvPr/>
        </p:nvSpPr>
        <p:spPr>
          <a:xfrm>
            <a:off x="2124000" y="2924280"/>
            <a:ext cx="1800" cy="360360"/>
          </a:xfrm>
          <a:custGeom>
            <a:avLst/>
            <a:gdLst>
              <a:gd name="textAreaLeft" fmla="*/ 0 w 1800"/>
              <a:gd name="textAreaRight" fmla="*/ 2160 w 1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" h="1001">
                <a:moveTo>
                  <a:pt x="0" y="0"/>
                </a:moveTo>
                <a:lnTo>
                  <a:pt x="0" y="1000"/>
                </a:lnTo>
              </a:path>
            </a:pathLst>
          </a:custGeom>
          <a:noFill/>
          <a:ln w="360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reeform 16"/>
          <p:cNvSpPr/>
          <p:nvPr/>
        </p:nvSpPr>
        <p:spPr>
          <a:xfrm>
            <a:off x="4464000" y="2924280"/>
            <a:ext cx="1800" cy="360360"/>
          </a:xfrm>
          <a:custGeom>
            <a:avLst/>
            <a:gdLst>
              <a:gd name="textAreaLeft" fmla="*/ 0 w 1800"/>
              <a:gd name="textAreaRight" fmla="*/ 2160 w 1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" h="1001">
                <a:moveTo>
                  <a:pt x="0" y="0"/>
                </a:moveTo>
                <a:lnTo>
                  <a:pt x="0" y="1000"/>
                </a:lnTo>
              </a:path>
            </a:pathLst>
          </a:custGeom>
          <a:noFill/>
          <a:ln w="360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Freeform 17"/>
          <p:cNvSpPr/>
          <p:nvPr/>
        </p:nvSpPr>
        <p:spPr>
          <a:xfrm>
            <a:off x="6880320" y="2924280"/>
            <a:ext cx="1440" cy="360360"/>
          </a:xfrm>
          <a:custGeom>
            <a:avLst/>
            <a:gdLst>
              <a:gd name="textAreaLeft" fmla="*/ 0 w 1440"/>
              <a:gd name="textAreaRight" fmla="*/ 1800 w 14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" h="1001">
                <a:moveTo>
                  <a:pt x="0" y="0"/>
                </a:moveTo>
                <a:lnTo>
                  <a:pt x="0" y="1000"/>
                </a:lnTo>
              </a:path>
            </a:pathLst>
          </a:custGeom>
          <a:noFill/>
          <a:ln w="360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1908000" y="522936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los distintos tipos de r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formación de las rocas magmá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958680" y="3762360"/>
            <a:ext cx="7140600" cy="2176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1042920" y="1557360"/>
            <a:ext cx="287964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magma (masas muy calientes de minerales fundidos) asciende lentamente hacia la superficie terrestre, a través d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litosfe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211640" y="1484280"/>
            <a:ext cx="23050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magmas que salen a la superficie a través de los volcanes, se enfrían deprisa originando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volcánic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6983280" y="1268280"/>
            <a:ext cx="216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magmas que no salen al exterior, se enfrían lentamente dando lugar 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plutónic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7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23 CuadroTexto"/>
          <p:cNvSpPr/>
          <p:nvPr/>
        </p:nvSpPr>
        <p:spPr>
          <a:xfrm>
            <a:off x="611280" y="1628640"/>
            <a:ext cx="360360" cy="36828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23 CuadroTexto"/>
          <p:cNvSpPr/>
          <p:nvPr/>
        </p:nvSpPr>
        <p:spPr>
          <a:xfrm>
            <a:off x="3780000" y="1557360"/>
            <a:ext cx="360360" cy="36828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23 CuadroTexto"/>
          <p:cNvSpPr/>
          <p:nvPr/>
        </p:nvSpPr>
        <p:spPr>
          <a:xfrm>
            <a:off x="6588000" y="1341360"/>
            <a:ext cx="360360" cy="36828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24 Conector recto"/>
          <p:cNvSpPr/>
          <p:nvPr/>
        </p:nvSpPr>
        <p:spPr>
          <a:xfrm flipV="1">
            <a:off x="2627280" y="2997000"/>
            <a:ext cx="0" cy="18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25 Conector recto"/>
          <p:cNvSpPr/>
          <p:nvPr/>
        </p:nvSpPr>
        <p:spPr>
          <a:xfrm flipV="1">
            <a:off x="5003640" y="299700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27 Conector recto"/>
          <p:cNvSpPr/>
          <p:nvPr/>
        </p:nvSpPr>
        <p:spPr>
          <a:xfrm flipH="1" flipV="1">
            <a:off x="5003640" y="393336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31 Conector recto"/>
          <p:cNvSpPr/>
          <p:nvPr/>
        </p:nvSpPr>
        <p:spPr>
          <a:xfrm flipV="1">
            <a:off x="7164360" y="2997000"/>
            <a:ext cx="0" cy="18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los distintos tipos de r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formación de las rocas metamórf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042920" y="2349360"/>
            <a:ext cx="28796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gunas rocas de la litosfera sufren grandes presiones y temperatur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716360" y="1989000"/>
            <a:ext cx="3743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altas presiones y temperaturas hacen que las rocas de la zona sufran transformaciones que las convierten en rocas metamórfic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1" descr=""/>
          <p:cNvPicPr/>
          <p:nvPr/>
        </p:nvPicPr>
        <p:blipFill>
          <a:blip r:embed="rId2"/>
          <a:stretch/>
        </p:blipFill>
        <p:spPr>
          <a:xfrm>
            <a:off x="922320" y="3384720"/>
            <a:ext cx="7500960" cy="29206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4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23 CuadroTexto"/>
          <p:cNvSpPr/>
          <p:nvPr/>
        </p:nvSpPr>
        <p:spPr>
          <a:xfrm>
            <a:off x="611280" y="2421000"/>
            <a:ext cx="360360" cy="368280"/>
          </a:xfrm>
          <a:prstGeom prst="rect">
            <a:avLst/>
          </a:prstGeom>
          <a:solidFill>
            <a:srgbClr val="66cbc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23 CuadroTexto"/>
          <p:cNvSpPr/>
          <p:nvPr/>
        </p:nvSpPr>
        <p:spPr>
          <a:xfrm>
            <a:off x="4284720" y="2060640"/>
            <a:ext cx="360360" cy="368280"/>
          </a:xfrm>
          <a:prstGeom prst="rect">
            <a:avLst/>
          </a:prstGeom>
          <a:solidFill>
            <a:srgbClr val="66cbc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19 Conector recto"/>
          <p:cNvSpPr/>
          <p:nvPr/>
        </p:nvSpPr>
        <p:spPr>
          <a:xfrm flipV="1">
            <a:off x="2340000" y="3284640"/>
            <a:ext cx="0" cy="151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20 Conector recto"/>
          <p:cNvSpPr/>
          <p:nvPr/>
        </p:nvSpPr>
        <p:spPr>
          <a:xfrm flipV="1">
            <a:off x="6156360" y="3068280"/>
            <a:ext cx="0" cy="129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563400" y="2879640"/>
            <a:ext cx="8040960" cy="39592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los distintos tipos de r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2692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formación de las sedimenta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5640" y="1628640"/>
            <a:ext cx="252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viento o las corrientes de agua arrancan fragmentos a las rocas y los transporta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635280" y="1341360"/>
            <a:ext cx="2016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 el tiempo,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sedimentos se van depositando unos sobre otros formando cap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6035760" y="1197000"/>
            <a:ext cx="310824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ndo hay muchas capas,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sedimentos de las capas inferiores son aplastados por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de las capas superiores,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 que los transforma en rocas sedimentari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23 CuadroTexto"/>
          <p:cNvSpPr/>
          <p:nvPr/>
        </p:nvSpPr>
        <p:spPr>
          <a:xfrm>
            <a:off x="395280" y="1700280"/>
            <a:ext cx="360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23 CuadroTexto"/>
          <p:cNvSpPr/>
          <p:nvPr/>
        </p:nvSpPr>
        <p:spPr>
          <a:xfrm>
            <a:off x="3203640" y="1413000"/>
            <a:ext cx="360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23 CuadroTexto"/>
          <p:cNvSpPr/>
          <p:nvPr/>
        </p:nvSpPr>
        <p:spPr>
          <a:xfrm>
            <a:off x="5580000" y="1268280"/>
            <a:ext cx="360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23 Conector recto"/>
          <p:cNvSpPr/>
          <p:nvPr/>
        </p:nvSpPr>
        <p:spPr>
          <a:xfrm flipV="1">
            <a:off x="2340000" y="2637000"/>
            <a:ext cx="0" cy="129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24 Conector recto"/>
          <p:cNvSpPr/>
          <p:nvPr/>
        </p:nvSpPr>
        <p:spPr>
          <a:xfrm flipV="1">
            <a:off x="4067280" y="2708280"/>
            <a:ext cx="0" cy="19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26 Conector recto"/>
          <p:cNvSpPr/>
          <p:nvPr/>
        </p:nvSpPr>
        <p:spPr>
          <a:xfrm flipV="1">
            <a:off x="7596360" y="2637000"/>
            <a:ext cx="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1T09:53:21Z</dcterms:modified>
  <cp:revision>49</cp:revision>
  <dc:subject/>
  <dc:title>Diapositiva 1</dc:title>
</cp:coreProperties>
</file>